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B3A-178C-4C01-8E61-17494F34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FA0-8F89-4F19-B817-FFB6375B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E85-D6B3-4450-8341-E8686405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5C3-3634-4FCB-ACDD-58002B79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66F1-9489-4A2E-8D15-C6B113F3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9E54-63D2-4E54-BD73-1E950506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74A8-C054-4357-BAAC-B7D383D5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8DBB-FE2E-4A6A-B17E-64AAC2CF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9CB9-EAE2-4AAD-B0D6-5B173810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5FBA-5472-4A28-9D70-F653C81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716B-5EDD-4115-9210-DE284A97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BAB-DF90-4527-B996-02CEDC51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84B-2CA3-4A1D-9E96-DD816C3D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DF81-E65C-406F-BB5F-87B364FD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F7B1-BD24-45D0-ABF3-CD5180A6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C886-206B-4136-939C-2FFD3209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A919-1841-4E7E-9CF3-FB14DD5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F54-D9D7-46CB-A642-9D0D9CD1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3F9-96ED-4A45-9C1D-80081EA4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60B-7946-42AE-8AC5-E1876645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198-6F93-448F-8951-0AD271BD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765-62BC-4030-BEA1-E2872294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423-A1DC-49F4-A52C-DCE0BC96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969-D12D-434D-B8F3-8F772D99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2562-E3B9-41E5-B2BA-53C806CFD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BB43-38AB-40EB-AE44-CC5BF7DC5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8915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OLUÇÃO/CONAMA/Nº 009 de 06 de dezembro de 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da no D.O.U, de 28/12/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6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concessão da Portaria de lavra ficará condicionada à apresentação ao DNPM, por parte do empreendedor, da Licença de Instalação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7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pós a obtenção da Portaria de lavra e a implantação dos projetos constantes do PCA, aprovados quando da concessão da Licença de Instalação, o empreendedor deverá requerer a Licença de Operação, apresentando a documentação necessári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§ 1º - O órgão ambiental competente, após a verificação da implantação dos projetos constantes do PCA e a análise da documentação pertinente, decidirá sobre a concessão da 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§ 2º - O órgão ambiental competente, após a comprovação da implantação dos projetos do PCA, concederá a Licença de Operaçã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41:09Z</dcterms:modified>
  <cp:revision>73</cp:revision>
  <dc:subject/>
  <dc:title>Apresentação do PowerPoint</dc:title>
</cp:coreProperties>
</file>